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urchbell.wav" ContentType="audio/x-wav"/>
  <Override PartName="/ppt/media/image17.png" ContentType="image/png"/>
  <Override PartName="/ppt/media/image9.png" ContentType="image/png"/>
  <Override PartName="/ppt/media/horsewhinney.wav" ContentType="audio/x-wav"/>
  <Override PartName="/ppt/media/image5.png" ContentType="image/png"/>
  <Override PartName="/ppt/media/image7.png" ContentType="image/png"/>
  <Override PartName="/ppt/media/image6.png" ContentType="image/png"/>
  <Override PartName="/ppt/media/bounce.wav" ContentType="audio/x-wav"/>
  <Override PartName="/ppt/media/image16.png" ContentType="image/png"/>
  <Override PartName="/ppt/media/image14.png" ContentType="image/png"/>
  <Override PartName="/ppt/media/image12.gif" ContentType="image/gif"/>
  <Override PartName="/ppt/media/image15.png" ContentType="image/png"/>
  <Override PartName="/ppt/media/image11.png" ContentType="image/png"/>
  <Override PartName="/ppt/media/image10.gif" ContentType="image/gif"/>
  <Override PartName="/ppt/media/image13.png" ContentType="image/png"/>
  <Override PartName="/ppt/media/Kids.wav" ContentType="audio/x-wav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C04A6-2A99-4075-B8B9-F4D2D508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9079C-F950-4BF5-83DE-AC4A5151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71E55-3281-4F51-9126-967097D6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43C8F-007D-49FB-B100-B841C4A9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9604-B332-444F-94B2-A65335FB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D791-2DD1-46FF-9484-D929ABD5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CB9C-2208-4611-9D1D-B7A26970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9186-65EA-4A12-909B-2259C71B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065B-94EA-4DBF-BB76-0EC20FE2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7471-44FE-47FB-BFCD-12F0C3EA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72D2-0CFB-4CBA-A4D3-5EF4FAF2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D7257-8FB9-4CBA-9506-A037AD95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645E-AE33-454B-88EB-A9A9644E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45A6-C610-491D-98E2-A03A0768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F8F1-E3C3-4F43-87B0-D32B3D19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A8DA-53C2-4D81-9B54-5C8BF9D1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1A31-1F0D-4BAB-A344-4BB70E6F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0562A-0023-421E-8D32-8FA5D67B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55635-6385-4BF4-A95B-CD184527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6CBF9-854C-4E2D-9706-26692776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E9310-1127-4CC0-9802-AF50C970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E8B27-E225-46ED-BD96-43F2C446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D4613-C9A4-4899-AA11-040535E7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4307A-3AE4-48D3-A010-2CB0DA6E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3f6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3f52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50000">
                  <a:srgbClr val="08396b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76E4-E2BF-4E50-8DD3-AB77726868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3f6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3f52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50000">
                  <a:srgbClr val="08396b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0FFA-C189-4763-A385-10425F8492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Kids.wav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9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4.xml"/><Relationship Id="rId3" Type="http://schemas.openxmlformats.org/officeDocument/2006/relationships/slide" Target=""/><Relationship Id="rId4" Type="http://schemas.openxmlformats.org/officeDocument/2006/relationships/slide" Target="slide14.xml"/><Relationship Id="rId5" Type="http://schemas.openxmlformats.org/officeDocument/2006/relationships/slide" Target=""/><Relationship Id="rId6" Type="http://schemas.openxmlformats.org/officeDocument/2006/relationships/slide" Target="slide14.xml"/><Relationship Id="rId7" Type="http://schemas.openxmlformats.org/officeDocument/2006/relationships/image" Target="../media/image15.png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12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7.xml"/><Relationship Id="rId3" Type="http://schemas.openxmlformats.org/officeDocument/2006/relationships/slide" Target=""/><Relationship Id="rId4" Type="http://schemas.openxmlformats.org/officeDocument/2006/relationships/slide" Target="slide17.xml"/><Relationship Id="rId5" Type="http://schemas.openxmlformats.org/officeDocument/2006/relationships/slide" Target=""/><Relationship Id="rId6" Type="http://schemas.openxmlformats.org/officeDocument/2006/relationships/slide" Target="slide17.xml"/><Relationship Id="rId7" Type="http://schemas.openxmlformats.org/officeDocument/2006/relationships/image" Target="../media/image16.png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audio" Target="../media/horsewhinney.wav"/><Relationship Id="rId6" Type="http://schemas.openxmlformats.org/officeDocument/2006/relationships/audio" Target="../media/churchbell.wav"/><Relationship Id="rId7" Type="http://schemas.openxmlformats.org/officeDocument/2006/relationships/audio" Target="../media/bounce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image" Target="../media/image9.png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8.xml"/><Relationship Id="rId3" Type="http://schemas.openxmlformats.org/officeDocument/2006/relationships/slide" Target=""/><Relationship Id="rId4" Type="http://schemas.openxmlformats.org/officeDocument/2006/relationships/slide" Target="slide8.xml"/><Relationship Id="rId5" Type="http://schemas.openxmlformats.org/officeDocument/2006/relationships/image" Target="../media/image13.png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6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1.xml"/><Relationship Id="rId3" Type="http://schemas.openxmlformats.org/officeDocument/2006/relationships/slide" Target=""/><Relationship Id="rId4" Type="http://schemas.openxmlformats.org/officeDocument/2006/relationships/slide" Target="slide11.xml"/><Relationship Id="rId5" Type="http://schemas.openxmlformats.org/officeDocument/2006/relationships/slide" Target=""/><Relationship Id="rId6" Type="http://schemas.openxmlformats.org/officeDocument/2006/relationships/slide" Target="slide11.xml"/><Relationship Id="rId7" Type="http://schemas.openxmlformats.org/officeDocument/2006/relationships/image" Target="../media/image14.png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Name It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u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des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ashley"/>
          <p:cNvPicPr/>
          <p:nvPr/>
        </p:nvPicPr>
        <p:blipFill>
          <a:blip r:embed="rId1"/>
          <a:stretch/>
        </p:blipFill>
        <p:spPr>
          <a:xfrm>
            <a:off x="6705720" y="304920"/>
            <a:ext cx="2152440" cy="2514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barn01"/>
          <p:cNvPicPr/>
          <p:nvPr/>
        </p:nvPicPr>
        <p:blipFill>
          <a:blip r:embed="rId2"/>
          <a:stretch/>
        </p:blipFill>
        <p:spPr>
          <a:xfrm>
            <a:off x="0" y="4114800"/>
            <a:ext cx="4572000" cy="3298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bicycle"/>
          <p:cNvPicPr/>
          <p:nvPr/>
        </p:nvPicPr>
        <p:blipFill>
          <a:blip r:embed="rId3"/>
          <a:stretch/>
        </p:blipFill>
        <p:spPr>
          <a:xfrm>
            <a:off x="7010280" y="4724280"/>
            <a:ext cx="2057400" cy="1866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bulb"/>
          <p:cNvPicPr/>
          <p:nvPr/>
        </p:nvPicPr>
        <p:blipFill>
          <a:blip r:embed="rId4"/>
          <a:stretch/>
        </p:blipFill>
        <p:spPr>
          <a:xfrm>
            <a:off x="457200" y="0"/>
            <a:ext cx="781200" cy="1495440"/>
          </a:xfrm>
          <a:prstGeom prst="rect">
            <a:avLst/>
          </a:prstGeom>
          <a:ln w="0">
            <a:noFill/>
          </a:ln>
        </p:spPr>
      </p:pic>
    </p:spTree>
  </p:cSld>
  <p:transition>
    <p:cover dir="l"/>
    <p:sndAc>
      <p:stSnd>
        <p:snd r:embed="rId5" name="Kid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2"/>
          <p:cNvSpPr/>
          <p:nvPr/>
        </p:nvSpPr>
        <p:spPr>
          <a:xfrm>
            <a:off x="5181480" y="3124080"/>
            <a:ext cx="2743200" cy="2590920"/>
          </a:xfrm>
          <a:custGeom>
            <a:avLst/>
            <a:gdLst>
              <a:gd name="textAreaLeft" fmla="*/ 167760 w 2743200"/>
              <a:gd name="textAreaRight" fmla="*/ 2575440 w 2743200"/>
              <a:gd name="textAreaTop" fmla="*/ 167760 h 2590920"/>
              <a:gd name="textAreaBottom" fmla="*/ 2423160 h 2590920"/>
            </a:gdLst>
            <a:ahLst/>
            <a:rect l="textAreaLeft" t="textAreaTop" r="textAreaRight" b="textAreaBottom"/>
            <a:pathLst>
              <a:path w="22869" h="21600">
                <a:moveTo>
                  <a:pt x="0" y="0"/>
                </a:moveTo>
                <a:lnTo>
                  <a:pt x="22869" y="0"/>
                </a:lnTo>
                <a:lnTo>
                  <a:pt x="22869" y="21600"/>
                </a:lnTo>
                <a:lnTo>
                  <a:pt x="0" y="21600"/>
                </a:lnTo>
                <a:close/>
              </a:path>
              <a:path fill="lightenLess" w="22869" h="21600">
                <a:moveTo>
                  <a:pt x="0" y="0"/>
                </a:moveTo>
                <a:lnTo>
                  <a:pt x="22869" y="0"/>
                </a:lnTo>
                <a:lnTo>
                  <a:pt x="21469" y="1400"/>
                </a:lnTo>
                <a:lnTo>
                  <a:pt x="1400" y="1400"/>
                </a:lnTo>
                <a:close/>
              </a:path>
              <a:path fill="darken" w="22869" h="21600">
                <a:moveTo>
                  <a:pt x="22869" y="0"/>
                </a:moveTo>
                <a:lnTo>
                  <a:pt x="22869" y="21600"/>
                </a:lnTo>
                <a:lnTo>
                  <a:pt x="21469" y="20200"/>
                </a:lnTo>
                <a:lnTo>
                  <a:pt x="21469" y="1400"/>
                </a:lnTo>
                <a:close/>
              </a:path>
              <a:path fill="darkenLess" w="22869" h="21600">
                <a:moveTo>
                  <a:pt x="22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69" y="20200"/>
                </a:lnTo>
                <a:close/>
              </a:path>
              <a:path fill="lighten" w="22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No, that word is not a noun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4" descr="madbugcp"/>
          <p:cNvPicPr/>
          <p:nvPr/>
        </p:nvPicPr>
        <p:blipFill>
          <a:blip r:embed="rId1"/>
          <a:stretch/>
        </p:blipFill>
        <p:spPr>
          <a:xfrm>
            <a:off x="5334120" y="3276720"/>
            <a:ext cx="2381040" cy="2247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leftpoint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914400" y="3809880"/>
            <a:ext cx="2286000" cy="10494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914400" y="5029200"/>
            <a:ext cx="251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ry again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4038480" y="3048120"/>
            <a:ext cx="2286000" cy="266688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666880"/>
              <a:gd name="textAreaBottom" fmla="*/ 2518920 h 2666880"/>
            </a:gdLst>
            <a:ahLst/>
            <a:rect l="textAreaLeft" t="textAreaTop" r="textAreaRight" b="textAreaBottom"/>
            <a:pathLst>
              <a:path w="21600" h="25198">
                <a:moveTo>
                  <a:pt x="0" y="0"/>
                </a:moveTo>
                <a:lnTo>
                  <a:pt x="21600" y="0"/>
                </a:lnTo>
                <a:lnTo>
                  <a:pt x="21600" y="25198"/>
                </a:lnTo>
                <a:lnTo>
                  <a:pt x="0" y="25198"/>
                </a:lnTo>
                <a:close/>
              </a:path>
              <a:path fill="lightenLess" w="21600" h="251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98">
                <a:moveTo>
                  <a:pt x="21600" y="0"/>
                </a:moveTo>
                <a:lnTo>
                  <a:pt x="21600" y="25198"/>
                </a:lnTo>
                <a:lnTo>
                  <a:pt x="20200" y="23798"/>
                </a:lnTo>
                <a:lnTo>
                  <a:pt x="20200" y="1400"/>
                </a:lnTo>
                <a:close/>
              </a:path>
              <a:path fill="darkenLess" w="21600" h="25198">
                <a:moveTo>
                  <a:pt x="21600" y="25198"/>
                </a:moveTo>
                <a:lnTo>
                  <a:pt x="0" y="25198"/>
                </a:lnTo>
                <a:lnTo>
                  <a:pt x="1400" y="23798"/>
                </a:lnTo>
                <a:lnTo>
                  <a:pt x="20200" y="23798"/>
                </a:lnTo>
                <a:close/>
              </a:path>
              <a:path fill="lighten" w="21600" h="25198">
                <a:moveTo>
                  <a:pt x="0" y="251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Yes, that word is a noun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4" descr="nicebugcp"/>
          <p:cNvPicPr/>
          <p:nvPr/>
        </p:nvPicPr>
        <p:blipFill>
          <a:blip r:embed="rId1"/>
          <a:stretch/>
        </p:blipFill>
        <p:spPr>
          <a:xfrm>
            <a:off x="4267080" y="3200400"/>
            <a:ext cx="1895760" cy="2381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leftpoint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14400" y="3809880"/>
            <a:ext cx="22860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Click the noun(s) in the sentence below.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1" action="ppaction://hlinksldjump"/>
              </a:rPr>
              <a:t>My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2" action="ppaction://hlinksldjump"/>
              </a:rPr>
              <a:t>mom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3" action="ppaction://hlinksldjump"/>
              </a:rPr>
              <a:t>and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4" action="ppaction://hlinksldjump"/>
              </a:rPr>
              <a:t>dad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5" action="ppaction://hlinksldjump"/>
              </a:rPr>
              <a:t>helped me with my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6" action="ppaction://hlinksldjump"/>
              </a:rPr>
              <a:t>homework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6" descr="studentparents"/>
          <p:cNvPicPr/>
          <p:nvPr/>
        </p:nvPicPr>
        <p:blipFill>
          <a:blip r:embed="rId7"/>
          <a:stretch/>
        </p:blipFill>
        <p:spPr>
          <a:xfrm>
            <a:off x="4495680" y="3200400"/>
            <a:ext cx="2676600" cy="32479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8">
            <a:hlinkClick r:id="rId8" action="ppaction://hlinksldjump"/>
          </p:cNvPr>
          <p:cNvSpPr/>
          <p:nvPr/>
        </p:nvSpPr>
        <p:spPr>
          <a:xfrm>
            <a:off x="380880" y="4343400"/>
            <a:ext cx="2819520" cy="1981080"/>
          </a:xfrm>
          <a:prstGeom prst="rightArrow">
            <a:avLst>
              <a:gd name="adj1" fmla="val 50000"/>
              <a:gd name="adj2" fmla="val 35581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9">
            <a:hlinkClick r:id="rId9" action="ppaction://hlinksldjump"/>
          </p:cNvPr>
          <p:cNvSpPr/>
          <p:nvPr/>
        </p:nvSpPr>
        <p:spPr>
          <a:xfrm>
            <a:off x="457200" y="48769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 Sent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2"/>
          <p:cNvSpPr/>
          <p:nvPr/>
        </p:nvSpPr>
        <p:spPr>
          <a:xfrm>
            <a:off x="5181480" y="3124080"/>
            <a:ext cx="2743200" cy="2590920"/>
          </a:xfrm>
          <a:custGeom>
            <a:avLst/>
            <a:gdLst>
              <a:gd name="textAreaLeft" fmla="*/ 167760 w 2743200"/>
              <a:gd name="textAreaRight" fmla="*/ 2575440 w 2743200"/>
              <a:gd name="textAreaTop" fmla="*/ 167760 h 2590920"/>
              <a:gd name="textAreaBottom" fmla="*/ 2423160 h 2590920"/>
            </a:gdLst>
            <a:ahLst/>
            <a:rect l="textAreaLeft" t="textAreaTop" r="textAreaRight" b="textAreaBottom"/>
            <a:pathLst>
              <a:path w="22869" h="21600">
                <a:moveTo>
                  <a:pt x="0" y="0"/>
                </a:moveTo>
                <a:lnTo>
                  <a:pt x="22869" y="0"/>
                </a:lnTo>
                <a:lnTo>
                  <a:pt x="22869" y="21600"/>
                </a:lnTo>
                <a:lnTo>
                  <a:pt x="0" y="21600"/>
                </a:lnTo>
                <a:close/>
              </a:path>
              <a:path fill="lightenLess" w="22869" h="21600">
                <a:moveTo>
                  <a:pt x="0" y="0"/>
                </a:moveTo>
                <a:lnTo>
                  <a:pt x="22869" y="0"/>
                </a:lnTo>
                <a:lnTo>
                  <a:pt x="21469" y="1400"/>
                </a:lnTo>
                <a:lnTo>
                  <a:pt x="1400" y="1400"/>
                </a:lnTo>
                <a:close/>
              </a:path>
              <a:path fill="darken" w="22869" h="21600">
                <a:moveTo>
                  <a:pt x="22869" y="0"/>
                </a:moveTo>
                <a:lnTo>
                  <a:pt x="22869" y="21600"/>
                </a:lnTo>
                <a:lnTo>
                  <a:pt x="21469" y="20200"/>
                </a:lnTo>
                <a:lnTo>
                  <a:pt x="21469" y="1400"/>
                </a:lnTo>
                <a:close/>
              </a:path>
              <a:path fill="darkenLess" w="22869" h="21600">
                <a:moveTo>
                  <a:pt x="22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69" y="20200"/>
                </a:lnTo>
                <a:close/>
              </a:path>
              <a:path fill="lighten" w="22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No, that word is not a noun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4" descr="madbugcp"/>
          <p:cNvPicPr/>
          <p:nvPr/>
        </p:nvPicPr>
        <p:blipFill>
          <a:blip r:embed="rId1"/>
          <a:stretch/>
        </p:blipFill>
        <p:spPr>
          <a:xfrm>
            <a:off x="5334120" y="3276720"/>
            <a:ext cx="2381040" cy="2247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leftpoint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914400" y="3809880"/>
            <a:ext cx="2286000" cy="10494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914400" y="5029200"/>
            <a:ext cx="251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ry again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"/>
          <p:cNvSpPr/>
          <p:nvPr/>
        </p:nvSpPr>
        <p:spPr>
          <a:xfrm>
            <a:off x="4038480" y="3048120"/>
            <a:ext cx="2286000" cy="266688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666880"/>
              <a:gd name="textAreaBottom" fmla="*/ 2518920 h 2666880"/>
            </a:gdLst>
            <a:ahLst/>
            <a:rect l="textAreaLeft" t="textAreaTop" r="textAreaRight" b="textAreaBottom"/>
            <a:pathLst>
              <a:path w="21600" h="25198">
                <a:moveTo>
                  <a:pt x="0" y="0"/>
                </a:moveTo>
                <a:lnTo>
                  <a:pt x="21600" y="0"/>
                </a:lnTo>
                <a:lnTo>
                  <a:pt x="21600" y="25198"/>
                </a:lnTo>
                <a:lnTo>
                  <a:pt x="0" y="25198"/>
                </a:lnTo>
                <a:close/>
              </a:path>
              <a:path fill="lightenLess" w="21600" h="251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98">
                <a:moveTo>
                  <a:pt x="21600" y="0"/>
                </a:moveTo>
                <a:lnTo>
                  <a:pt x="21600" y="25198"/>
                </a:lnTo>
                <a:lnTo>
                  <a:pt x="20200" y="23798"/>
                </a:lnTo>
                <a:lnTo>
                  <a:pt x="20200" y="1400"/>
                </a:lnTo>
                <a:close/>
              </a:path>
              <a:path fill="darkenLess" w="21600" h="25198">
                <a:moveTo>
                  <a:pt x="21600" y="25198"/>
                </a:moveTo>
                <a:lnTo>
                  <a:pt x="0" y="25198"/>
                </a:lnTo>
                <a:lnTo>
                  <a:pt x="1400" y="23798"/>
                </a:lnTo>
                <a:lnTo>
                  <a:pt x="20200" y="23798"/>
                </a:lnTo>
                <a:close/>
              </a:path>
              <a:path fill="lighten" w="21600" h="25198">
                <a:moveTo>
                  <a:pt x="0" y="251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Yes, that word is a noun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4" descr="nicebugcp"/>
          <p:cNvPicPr/>
          <p:nvPr/>
        </p:nvPicPr>
        <p:blipFill>
          <a:blip r:embed="rId1"/>
          <a:stretch/>
        </p:blipFill>
        <p:spPr>
          <a:xfrm>
            <a:off x="4267080" y="3200400"/>
            <a:ext cx="1895760" cy="2381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leftpoint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14400" y="3809880"/>
            <a:ext cx="22860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Click the noun(s) in the sentence below.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1" action="ppaction://hlinksldjump"/>
              </a:rPr>
              <a:t>The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2" action="ppaction://hlinksldjump"/>
              </a:rPr>
              <a:t>doctor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3" action="ppaction://hlinksldjump"/>
              </a:rPr>
              <a:t>visited the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4" action="ppaction://hlinksldjump"/>
              </a:rPr>
              <a:t>patient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5" action="ppaction://hlinksldjump"/>
              </a:rPr>
              <a:t>at the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6" action="ppaction://hlinksldjump"/>
              </a:rPr>
              <a:t>hospital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5" descr="drconsult"/>
          <p:cNvPicPr/>
          <p:nvPr/>
        </p:nvPicPr>
        <p:blipFill>
          <a:blip r:embed="rId7"/>
          <a:stretch/>
        </p:blipFill>
        <p:spPr>
          <a:xfrm>
            <a:off x="3733920" y="3276720"/>
            <a:ext cx="4757760" cy="30528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">
            <a:hlinkClick r:id="rId8" action="ppaction://hlinksldjump"/>
          </p:cNvPr>
          <p:cNvSpPr/>
          <p:nvPr/>
        </p:nvSpPr>
        <p:spPr>
          <a:xfrm>
            <a:off x="380880" y="4343400"/>
            <a:ext cx="2819520" cy="1981080"/>
          </a:xfrm>
          <a:prstGeom prst="rightArrow">
            <a:avLst>
              <a:gd name="adj1" fmla="val 50000"/>
              <a:gd name="adj2" fmla="val 35581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457200" y="4876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9" action="ppaction://hlinksldjump"/>
              </a:rPr>
              <a:t>Next Sent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2"/>
          <p:cNvSpPr/>
          <p:nvPr/>
        </p:nvSpPr>
        <p:spPr>
          <a:xfrm>
            <a:off x="5181480" y="3124080"/>
            <a:ext cx="2743200" cy="2590920"/>
          </a:xfrm>
          <a:custGeom>
            <a:avLst/>
            <a:gdLst>
              <a:gd name="textAreaLeft" fmla="*/ 167760 w 2743200"/>
              <a:gd name="textAreaRight" fmla="*/ 2575440 w 2743200"/>
              <a:gd name="textAreaTop" fmla="*/ 167760 h 2590920"/>
              <a:gd name="textAreaBottom" fmla="*/ 2423160 h 2590920"/>
            </a:gdLst>
            <a:ahLst/>
            <a:rect l="textAreaLeft" t="textAreaTop" r="textAreaRight" b="textAreaBottom"/>
            <a:pathLst>
              <a:path w="22869" h="21600">
                <a:moveTo>
                  <a:pt x="0" y="0"/>
                </a:moveTo>
                <a:lnTo>
                  <a:pt x="22869" y="0"/>
                </a:lnTo>
                <a:lnTo>
                  <a:pt x="22869" y="21600"/>
                </a:lnTo>
                <a:lnTo>
                  <a:pt x="0" y="21600"/>
                </a:lnTo>
                <a:close/>
              </a:path>
              <a:path fill="lightenLess" w="22869" h="21600">
                <a:moveTo>
                  <a:pt x="0" y="0"/>
                </a:moveTo>
                <a:lnTo>
                  <a:pt x="22869" y="0"/>
                </a:lnTo>
                <a:lnTo>
                  <a:pt x="21469" y="1400"/>
                </a:lnTo>
                <a:lnTo>
                  <a:pt x="1400" y="1400"/>
                </a:lnTo>
                <a:close/>
              </a:path>
              <a:path fill="darken" w="22869" h="21600">
                <a:moveTo>
                  <a:pt x="22869" y="0"/>
                </a:moveTo>
                <a:lnTo>
                  <a:pt x="22869" y="21600"/>
                </a:lnTo>
                <a:lnTo>
                  <a:pt x="21469" y="20200"/>
                </a:lnTo>
                <a:lnTo>
                  <a:pt x="21469" y="1400"/>
                </a:lnTo>
                <a:close/>
              </a:path>
              <a:path fill="darkenLess" w="22869" h="21600">
                <a:moveTo>
                  <a:pt x="22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69" y="20200"/>
                </a:lnTo>
                <a:close/>
              </a:path>
              <a:path fill="lighten" w="22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No, that word is not a noun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4" descr="madbugcp"/>
          <p:cNvPicPr/>
          <p:nvPr/>
        </p:nvPicPr>
        <p:blipFill>
          <a:blip r:embed="rId1"/>
          <a:stretch/>
        </p:blipFill>
        <p:spPr>
          <a:xfrm>
            <a:off x="5334120" y="3276720"/>
            <a:ext cx="2381040" cy="2247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leftpoint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914400" y="3809880"/>
            <a:ext cx="2286000" cy="10494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914400" y="5029200"/>
            <a:ext cx="251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ry again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2"/>
          <p:cNvSpPr/>
          <p:nvPr/>
        </p:nvSpPr>
        <p:spPr>
          <a:xfrm>
            <a:off x="4038480" y="3048120"/>
            <a:ext cx="2286000" cy="266688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666880"/>
              <a:gd name="textAreaBottom" fmla="*/ 2518920 h 2666880"/>
            </a:gdLst>
            <a:ahLst/>
            <a:rect l="textAreaLeft" t="textAreaTop" r="textAreaRight" b="textAreaBottom"/>
            <a:pathLst>
              <a:path w="21600" h="25198">
                <a:moveTo>
                  <a:pt x="0" y="0"/>
                </a:moveTo>
                <a:lnTo>
                  <a:pt x="21600" y="0"/>
                </a:lnTo>
                <a:lnTo>
                  <a:pt x="21600" y="25198"/>
                </a:lnTo>
                <a:lnTo>
                  <a:pt x="0" y="25198"/>
                </a:lnTo>
                <a:close/>
              </a:path>
              <a:path fill="lightenLess" w="21600" h="251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98">
                <a:moveTo>
                  <a:pt x="21600" y="0"/>
                </a:moveTo>
                <a:lnTo>
                  <a:pt x="21600" y="25198"/>
                </a:lnTo>
                <a:lnTo>
                  <a:pt x="20200" y="23798"/>
                </a:lnTo>
                <a:lnTo>
                  <a:pt x="20200" y="1400"/>
                </a:lnTo>
                <a:close/>
              </a:path>
              <a:path fill="darkenLess" w="21600" h="25198">
                <a:moveTo>
                  <a:pt x="21600" y="25198"/>
                </a:moveTo>
                <a:lnTo>
                  <a:pt x="0" y="25198"/>
                </a:lnTo>
                <a:lnTo>
                  <a:pt x="1400" y="23798"/>
                </a:lnTo>
                <a:lnTo>
                  <a:pt x="20200" y="23798"/>
                </a:lnTo>
                <a:close/>
              </a:path>
              <a:path fill="lighten" w="21600" h="25198">
                <a:moveTo>
                  <a:pt x="0" y="251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Yes, that word is a noun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4" descr="nicebugcp"/>
          <p:cNvPicPr/>
          <p:nvPr/>
        </p:nvPicPr>
        <p:blipFill>
          <a:blip r:embed="rId1"/>
          <a:stretch/>
        </p:blipFill>
        <p:spPr>
          <a:xfrm>
            <a:off x="4267080" y="3200400"/>
            <a:ext cx="1895760" cy="2381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leftpoint"/>
          <p:cNvPicPr/>
          <p:nvPr/>
        </p:nvPicPr>
        <p:blipFill>
          <a:blip r:embed="rId2"/>
          <a:stretch/>
        </p:blipFill>
        <p:spPr>
          <a:xfrm>
            <a:off x="914400" y="3809880"/>
            <a:ext cx="22860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Click the noun(s) in the sentence below.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Our team won the big game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5" descr="footballplayr"/>
          <p:cNvPicPr/>
          <p:nvPr/>
        </p:nvPicPr>
        <p:blipFill>
          <a:blip r:embed="rId1"/>
          <a:stretch/>
        </p:blipFill>
        <p:spPr>
          <a:xfrm>
            <a:off x="3429000" y="2895480"/>
            <a:ext cx="2522520" cy="365760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7"/>
          <p:cNvSpPr/>
          <p:nvPr/>
        </p:nvSpPr>
        <p:spPr>
          <a:xfrm>
            <a:off x="380880" y="4343400"/>
            <a:ext cx="2819520" cy="1981080"/>
          </a:xfrm>
          <a:prstGeom prst="rightArrow">
            <a:avLst>
              <a:gd name="adj1" fmla="val 50000"/>
              <a:gd name="adj2" fmla="val 35581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457200" y="48769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 Sent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5181480" y="3124080"/>
            <a:ext cx="2743200" cy="2590920"/>
          </a:xfrm>
          <a:custGeom>
            <a:avLst/>
            <a:gdLst>
              <a:gd name="textAreaLeft" fmla="*/ 167760 w 2743200"/>
              <a:gd name="textAreaRight" fmla="*/ 2575440 w 2743200"/>
              <a:gd name="textAreaTop" fmla="*/ 167760 h 2590920"/>
              <a:gd name="textAreaBottom" fmla="*/ 2423160 h 2590920"/>
            </a:gdLst>
            <a:ahLst/>
            <a:rect l="textAreaLeft" t="textAreaTop" r="textAreaRight" b="textAreaBottom"/>
            <a:pathLst>
              <a:path w="22869" h="21600">
                <a:moveTo>
                  <a:pt x="0" y="0"/>
                </a:moveTo>
                <a:lnTo>
                  <a:pt x="22869" y="0"/>
                </a:lnTo>
                <a:lnTo>
                  <a:pt x="22869" y="21600"/>
                </a:lnTo>
                <a:lnTo>
                  <a:pt x="0" y="21600"/>
                </a:lnTo>
                <a:close/>
              </a:path>
              <a:path fill="lightenLess" w="22869" h="21600">
                <a:moveTo>
                  <a:pt x="0" y="0"/>
                </a:moveTo>
                <a:lnTo>
                  <a:pt x="22869" y="0"/>
                </a:lnTo>
                <a:lnTo>
                  <a:pt x="21469" y="1400"/>
                </a:lnTo>
                <a:lnTo>
                  <a:pt x="1400" y="1400"/>
                </a:lnTo>
                <a:close/>
              </a:path>
              <a:path fill="darken" w="22869" h="21600">
                <a:moveTo>
                  <a:pt x="22869" y="0"/>
                </a:moveTo>
                <a:lnTo>
                  <a:pt x="22869" y="21600"/>
                </a:lnTo>
                <a:lnTo>
                  <a:pt x="21469" y="20200"/>
                </a:lnTo>
                <a:lnTo>
                  <a:pt x="21469" y="1400"/>
                </a:lnTo>
                <a:close/>
              </a:path>
              <a:path fill="darkenLess" w="22869" h="21600">
                <a:moveTo>
                  <a:pt x="22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69" y="20200"/>
                </a:lnTo>
                <a:close/>
              </a:path>
              <a:path fill="lighten" w="22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No, that word is not a noun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Picture 4" descr="madbugcp"/>
          <p:cNvPicPr/>
          <p:nvPr/>
        </p:nvPicPr>
        <p:blipFill>
          <a:blip r:embed="rId1"/>
          <a:stretch/>
        </p:blipFill>
        <p:spPr>
          <a:xfrm>
            <a:off x="5334120" y="3276720"/>
            <a:ext cx="2381040" cy="2247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leftpoint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914400" y="3809880"/>
            <a:ext cx="2286000" cy="10494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"/>
          <p:cNvSpPr/>
          <p:nvPr/>
        </p:nvSpPr>
        <p:spPr>
          <a:xfrm>
            <a:off x="914400" y="5029200"/>
            <a:ext cx="251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ry again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is a noun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noun is a person, place, thing, or ide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7" descr="cowboy4"/>
          <p:cNvPicPr/>
          <p:nvPr/>
        </p:nvPicPr>
        <p:blipFill>
          <a:blip r:embed="rId1"/>
          <a:stretch/>
        </p:blipFill>
        <p:spPr>
          <a:xfrm>
            <a:off x="0" y="2819520"/>
            <a:ext cx="2924280" cy="26762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8"/>
          <p:cNvSpPr/>
          <p:nvPr/>
        </p:nvSpPr>
        <p:spPr>
          <a:xfrm>
            <a:off x="685800" y="548640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on:  cowb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9" descr="church"/>
          <p:cNvPicPr/>
          <p:nvPr/>
        </p:nvPicPr>
        <p:blipFill>
          <a:blip r:embed="rId2"/>
          <a:stretch/>
        </p:blipFill>
        <p:spPr>
          <a:xfrm>
            <a:off x="2895480" y="3048120"/>
            <a:ext cx="1594080" cy="21286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0"/>
          <p:cNvSpPr/>
          <p:nvPr/>
        </p:nvSpPr>
        <p:spPr>
          <a:xfrm>
            <a:off x="3048120" y="548640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ce:  chu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11" descr="beachball2"/>
          <p:cNvPicPr/>
          <p:nvPr/>
        </p:nvPicPr>
        <p:blipFill>
          <a:blip r:embed="rId3"/>
          <a:stretch/>
        </p:blipFill>
        <p:spPr>
          <a:xfrm>
            <a:off x="4952880" y="342900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2"/>
          <p:cNvSpPr/>
          <p:nvPr/>
        </p:nvSpPr>
        <p:spPr>
          <a:xfrm>
            <a:off x="4952880" y="5486400"/>
            <a:ext cx="221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g:  beachb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15" descr="justice"/>
          <p:cNvPicPr/>
          <p:nvPr/>
        </p:nvPicPr>
        <p:blipFill>
          <a:blip r:embed="rId4"/>
          <a:stretch/>
        </p:blipFill>
        <p:spPr>
          <a:xfrm>
            <a:off x="6858000" y="3200400"/>
            <a:ext cx="1892160" cy="2057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6"/>
          <p:cNvSpPr/>
          <p:nvPr/>
        </p:nvSpPr>
        <p:spPr>
          <a:xfrm>
            <a:off x="7238880" y="5410080"/>
            <a:ext cx="221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a:  jus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orsewhinne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urch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un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4038480" y="3048120"/>
            <a:ext cx="2286000" cy="266688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666880"/>
              <a:gd name="textAreaBottom" fmla="*/ 2518920 h 2666880"/>
            </a:gdLst>
            <a:ahLst/>
            <a:rect l="textAreaLeft" t="textAreaTop" r="textAreaRight" b="textAreaBottom"/>
            <a:pathLst>
              <a:path w="21600" h="25198">
                <a:moveTo>
                  <a:pt x="0" y="0"/>
                </a:moveTo>
                <a:lnTo>
                  <a:pt x="21600" y="0"/>
                </a:lnTo>
                <a:lnTo>
                  <a:pt x="21600" y="25198"/>
                </a:lnTo>
                <a:lnTo>
                  <a:pt x="0" y="25198"/>
                </a:lnTo>
                <a:close/>
              </a:path>
              <a:path fill="lightenLess" w="21600" h="251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98">
                <a:moveTo>
                  <a:pt x="21600" y="0"/>
                </a:moveTo>
                <a:lnTo>
                  <a:pt x="21600" y="25198"/>
                </a:lnTo>
                <a:lnTo>
                  <a:pt x="20200" y="23798"/>
                </a:lnTo>
                <a:lnTo>
                  <a:pt x="20200" y="1400"/>
                </a:lnTo>
                <a:close/>
              </a:path>
              <a:path fill="darkenLess" w="21600" h="25198">
                <a:moveTo>
                  <a:pt x="21600" y="25198"/>
                </a:moveTo>
                <a:lnTo>
                  <a:pt x="0" y="25198"/>
                </a:lnTo>
                <a:lnTo>
                  <a:pt x="1400" y="23798"/>
                </a:lnTo>
                <a:lnTo>
                  <a:pt x="20200" y="23798"/>
                </a:lnTo>
                <a:close/>
              </a:path>
              <a:path fill="lighten" w="21600" h="25198">
                <a:moveTo>
                  <a:pt x="0" y="251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Yes, that word is a noun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4" descr="nicebugcp"/>
          <p:cNvPicPr/>
          <p:nvPr/>
        </p:nvPicPr>
        <p:blipFill>
          <a:blip r:embed="rId1"/>
          <a:stretch/>
        </p:blipFill>
        <p:spPr>
          <a:xfrm>
            <a:off x="4267080" y="3200400"/>
            <a:ext cx="1895760" cy="2381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leftpoint"/>
          <p:cNvPicPr/>
          <p:nvPr/>
        </p:nvPicPr>
        <p:blipFill>
          <a:blip r:embed="rId2"/>
          <a:stretch/>
        </p:blipFill>
        <p:spPr>
          <a:xfrm>
            <a:off x="914400" y="3809880"/>
            <a:ext cx="22860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Click the noun(s) in the sentence below.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1" action="ppaction://hlinksldjump"/>
              </a:rPr>
              <a:t>Our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2" action="ppaction://hlinksldjump"/>
              </a:rPr>
              <a:t>teacher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3" action="ppaction://hlinksldjump"/>
              </a:rPr>
              <a:t>handed out the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4" action="ppaction://hlinksldjump"/>
              </a:rPr>
              <a:t>papers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teacheroldman"/>
          <p:cNvPicPr/>
          <p:nvPr/>
        </p:nvPicPr>
        <p:blipFill>
          <a:blip r:embed="rId5"/>
          <a:stretch/>
        </p:blipFill>
        <p:spPr>
          <a:xfrm>
            <a:off x="3657600" y="4343400"/>
            <a:ext cx="1876320" cy="24192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6">
            <a:hlinkClick r:id="rId6" action="ppaction://hlinksldjump"/>
          </p:cNvPr>
          <p:cNvSpPr/>
          <p:nvPr/>
        </p:nvSpPr>
        <p:spPr>
          <a:xfrm>
            <a:off x="380880" y="4343400"/>
            <a:ext cx="2819520" cy="1981080"/>
          </a:xfrm>
          <a:prstGeom prst="rightArrow">
            <a:avLst>
              <a:gd name="adj1" fmla="val 50000"/>
              <a:gd name="adj2" fmla="val 35581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7">
            <a:hlinkClick r:id="rId7" action="ppaction://hlinksldjump"/>
          </p:cNvPr>
          <p:cNvSpPr/>
          <p:nvPr/>
        </p:nvSpPr>
        <p:spPr>
          <a:xfrm>
            <a:off x="457200" y="48769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 Sent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6"/>
          <p:cNvSpPr/>
          <p:nvPr/>
        </p:nvSpPr>
        <p:spPr>
          <a:xfrm>
            <a:off x="5181480" y="3124080"/>
            <a:ext cx="2743200" cy="2590920"/>
          </a:xfrm>
          <a:custGeom>
            <a:avLst/>
            <a:gdLst>
              <a:gd name="textAreaLeft" fmla="*/ 167760 w 2743200"/>
              <a:gd name="textAreaRight" fmla="*/ 2575440 w 2743200"/>
              <a:gd name="textAreaTop" fmla="*/ 167760 h 2590920"/>
              <a:gd name="textAreaBottom" fmla="*/ 2423160 h 2590920"/>
            </a:gdLst>
            <a:ahLst/>
            <a:rect l="textAreaLeft" t="textAreaTop" r="textAreaRight" b="textAreaBottom"/>
            <a:pathLst>
              <a:path w="22869" h="21600">
                <a:moveTo>
                  <a:pt x="0" y="0"/>
                </a:moveTo>
                <a:lnTo>
                  <a:pt x="22869" y="0"/>
                </a:lnTo>
                <a:lnTo>
                  <a:pt x="22869" y="21600"/>
                </a:lnTo>
                <a:lnTo>
                  <a:pt x="0" y="21600"/>
                </a:lnTo>
                <a:close/>
              </a:path>
              <a:path fill="lightenLess" w="22869" h="21600">
                <a:moveTo>
                  <a:pt x="0" y="0"/>
                </a:moveTo>
                <a:lnTo>
                  <a:pt x="22869" y="0"/>
                </a:lnTo>
                <a:lnTo>
                  <a:pt x="21469" y="1400"/>
                </a:lnTo>
                <a:lnTo>
                  <a:pt x="1400" y="1400"/>
                </a:lnTo>
                <a:close/>
              </a:path>
              <a:path fill="darken" w="22869" h="21600">
                <a:moveTo>
                  <a:pt x="22869" y="0"/>
                </a:moveTo>
                <a:lnTo>
                  <a:pt x="22869" y="21600"/>
                </a:lnTo>
                <a:lnTo>
                  <a:pt x="21469" y="20200"/>
                </a:lnTo>
                <a:lnTo>
                  <a:pt x="21469" y="1400"/>
                </a:lnTo>
                <a:close/>
              </a:path>
              <a:path fill="darkenLess" w="22869" h="21600">
                <a:moveTo>
                  <a:pt x="22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69" y="20200"/>
                </a:lnTo>
                <a:close/>
              </a:path>
              <a:path fill="lighten" w="22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No, that word is not a noun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5" descr="madbugcp"/>
          <p:cNvPicPr/>
          <p:nvPr/>
        </p:nvPicPr>
        <p:blipFill>
          <a:blip r:embed="rId1"/>
          <a:stretch/>
        </p:blipFill>
        <p:spPr>
          <a:xfrm>
            <a:off x="5334120" y="3276720"/>
            <a:ext cx="2381040" cy="2247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leftpoint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914400" y="3809880"/>
            <a:ext cx="2286000" cy="1049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914400" y="5029200"/>
            <a:ext cx="251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ry again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5"/>
          <p:cNvSpPr/>
          <p:nvPr/>
        </p:nvSpPr>
        <p:spPr>
          <a:xfrm>
            <a:off x="4038480" y="3048120"/>
            <a:ext cx="2286000" cy="266688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666880"/>
              <a:gd name="textAreaBottom" fmla="*/ 2518920 h 2666880"/>
            </a:gdLst>
            <a:ahLst/>
            <a:rect l="textAreaLeft" t="textAreaTop" r="textAreaRight" b="textAreaBottom"/>
            <a:pathLst>
              <a:path w="21600" h="25198">
                <a:moveTo>
                  <a:pt x="0" y="0"/>
                </a:moveTo>
                <a:lnTo>
                  <a:pt x="21600" y="0"/>
                </a:lnTo>
                <a:lnTo>
                  <a:pt x="21600" y="25198"/>
                </a:lnTo>
                <a:lnTo>
                  <a:pt x="0" y="25198"/>
                </a:lnTo>
                <a:close/>
              </a:path>
              <a:path fill="lightenLess" w="21600" h="251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98">
                <a:moveTo>
                  <a:pt x="21600" y="0"/>
                </a:moveTo>
                <a:lnTo>
                  <a:pt x="21600" y="25198"/>
                </a:lnTo>
                <a:lnTo>
                  <a:pt x="20200" y="23798"/>
                </a:lnTo>
                <a:lnTo>
                  <a:pt x="20200" y="1400"/>
                </a:lnTo>
                <a:close/>
              </a:path>
              <a:path fill="darkenLess" w="21600" h="25198">
                <a:moveTo>
                  <a:pt x="21600" y="25198"/>
                </a:moveTo>
                <a:lnTo>
                  <a:pt x="0" y="25198"/>
                </a:lnTo>
                <a:lnTo>
                  <a:pt x="1400" y="23798"/>
                </a:lnTo>
                <a:lnTo>
                  <a:pt x="20200" y="23798"/>
                </a:lnTo>
                <a:close/>
              </a:path>
              <a:path fill="lighten" w="21600" h="25198">
                <a:moveTo>
                  <a:pt x="0" y="251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Yes, that word is a noun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nicebugcp"/>
          <p:cNvPicPr/>
          <p:nvPr/>
        </p:nvPicPr>
        <p:blipFill>
          <a:blip r:embed="rId1"/>
          <a:stretch/>
        </p:blipFill>
        <p:spPr>
          <a:xfrm>
            <a:off x="4267080" y="3200400"/>
            <a:ext cx="1895760" cy="2381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leftpoint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14400" y="3809880"/>
            <a:ext cx="22860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Click the noun(s) in the sentence below.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1" action="ppaction://hlinksldjump"/>
              </a:rPr>
              <a:t>The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2" action="ppaction://hlinksldjump"/>
              </a:rPr>
              <a:t>bus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3" action="ppaction://hlinksldjump"/>
              </a:rPr>
              <a:t>went down the wrong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4" action="ppaction://hlinksldjump"/>
              </a:rPr>
              <a:t>road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6" descr="buslg"/>
          <p:cNvPicPr/>
          <p:nvPr/>
        </p:nvPicPr>
        <p:blipFill>
          <a:blip r:embed="rId5"/>
          <a:stretch/>
        </p:blipFill>
        <p:spPr>
          <a:xfrm>
            <a:off x="4267080" y="3657600"/>
            <a:ext cx="3838680" cy="208584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8">
            <a:hlinkClick r:id="rId6" action="ppaction://hlinksldjump"/>
          </p:cNvPr>
          <p:cNvSpPr/>
          <p:nvPr/>
        </p:nvSpPr>
        <p:spPr>
          <a:xfrm>
            <a:off x="380880" y="4343400"/>
            <a:ext cx="2819520" cy="1981080"/>
          </a:xfrm>
          <a:prstGeom prst="rightArrow">
            <a:avLst>
              <a:gd name="adj1" fmla="val 50000"/>
              <a:gd name="adj2" fmla="val 35581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9">
            <a:hlinkClick r:id="rId7" action="ppaction://hlinksldjump"/>
          </p:cNvPr>
          <p:cNvSpPr/>
          <p:nvPr/>
        </p:nvSpPr>
        <p:spPr>
          <a:xfrm>
            <a:off x="457200" y="48769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 Sent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5181480" y="3124080"/>
            <a:ext cx="2743200" cy="2590920"/>
          </a:xfrm>
          <a:custGeom>
            <a:avLst/>
            <a:gdLst>
              <a:gd name="textAreaLeft" fmla="*/ 167760 w 2743200"/>
              <a:gd name="textAreaRight" fmla="*/ 2575440 w 2743200"/>
              <a:gd name="textAreaTop" fmla="*/ 167760 h 2590920"/>
              <a:gd name="textAreaBottom" fmla="*/ 2423160 h 2590920"/>
            </a:gdLst>
            <a:ahLst/>
            <a:rect l="textAreaLeft" t="textAreaTop" r="textAreaRight" b="textAreaBottom"/>
            <a:pathLst>
              <a:path w="22869" h="21600">
                <a:moveTo>
                  <a:pt x="0" y="0"/>
                </a:moveTo>
                <a:lnTo>
                  <a:pt x="22869" y="0"/>
                </a:lnTo>
                <a:lnTo>
                  <a:pt x="22869" y="21600"/>
                </a:lnTo>
                <a:lnTo>
                  <a:pt x="0" y="21600"/>
                </a:lnTo>
                <a:close/>
              </a:path>
              <a:path fill="lightenLess" w="22869" h="21600">
                <a:moveTo>
                  <a:pt x="0" y="0"/>
                </a:moveTo>
                <a:lnTo>
                  <a:pt x="22869" y="0"/>
                </a:lnTo>
                <a:lnTo>
                  <a:pt x="21469" y="1400"/>
                </a:lnTo>
                <a:lnTo>
                  <a:pt x="1400" y="1400"/>
                </a:lnTo>
                <a:close/>
              </a:path>
              <a:path fill="darken" w="22869" h="21600">
                <a:moveTo>
                  <a:pt x="22869" y="0"/>
                </a:moveTo>
                <a:lnTo>
                  <a:pt x="22869" y="21600"/>
                </a:lnTo>
                <a:lnTo>
                  <a:pt x="21469" y="20200"/>
                </a:lnTo>
                <a:lnTo>
                  <a:pt x="21469" y="1400"/>
                </a:lnTo>
                <a:close/>
              </a:path>
              <a:path fill="darkenLess" w="22869" h="21600">
                <a:moveTo>
                  <a:pt x="22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69" y="20200"/>
                </a:lnTo>
                <a:close/>
              </a:path>
              <a:path fill="lighten" w="22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No, that word is not a noun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4" descr="madbugcp"/>
          <p:cNvPicPr/>
          <p:nvPr/>
        </p:nvPicPr>
        <p:blipFill>
          <a:blip r:embed="rId1"/>
          <a:stretch/>
        </p:blipFill>
        <p:spPr>
          <a:xfrm>
            <a:off x="5334120" y="3276720"/>
            <a:ext cx="2381040" cy="2247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leftpoint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914400" y="3809880"/>
            <a:ext cx="2286000" cy="10494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914400" y="5029200"/>
            <a:ext cx="251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ry again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>
            <a:off x="4038480" y="3048120"/>
            <a:ext cx="2286000" cy="266688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666880"/>
              <a:gd name="textAreaBottom" fmla="*/ 2518920 h 2666880"/>
            </a:gdLst>
            <a:ahLst/>
            <a:rect l="textAreaLeft" t="textAreaTop" r="textAreaRight" b="textAreaBottom"/>
            <a:pathLst>
              <a:path w="21600" h="25198">
                <a:moveTo>
                  <a:pt x="0" y="0"/>
                </a:moveTo>
                <a:lnTo>
                  <a:pt x="21600" y="0"/>
                </a:lnTo>
                <a:lnTo>
                  <a:pt x="21600" y="25198"/>
                </a:lnTo>
                <a:lnTo>
                  <a:pt x="0" y="25198"/>
                </a:lnTo>
                <a:close/>
              </a:path>
              <a:path fill="lightenLess" w="21600" h="251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98">
                <a:moveTo>
                  <a:pt x="21600" y="0"/>
                </a:moveTo>
                <a:lnTo>
                  <a:pt x="21600" y="25198"/>
                </a:lnTo>
                <a:lnTo>
                  <a:pt x="20200" y="23798"/>
                </a:lnTo>
                <a:lnTo>
                  <a:pt x="20200" y="1400"/>
                </a:lnTo>
                <a:close/>
              </a:path>
              <a:path fill="darkenLess" w="21600" h="25198">
                <a:moveTo>
                  <a:pt x="21600" y="25198"/>
                </a:moveTo>
                <a:lnTo>
                  <a:pt x="0" y="25198"/>
                </a:lnTo>
                <a:lnTo>
                  <a:pt x="1400" y="23798"/>
                </a:lnTo>
                <a:lnTo>
                  <a:pt x="20200" y="23798"/>
                </a:lnTo>
                <a:close/>
              </a:path>
              <a:path fill="lighten" w="21600" h="25198">
                <a:moveTo>
                  <a:pt x="0" y="251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Yes, that word is a noun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nicebugcp"/>
          <p:cNvPicPr/>
          <p:nvPr/>
        </p:nvPicPr>
        <p:blipFill>
          <a:blip r:embed="rId1"/>
          <a:stretch/>
        </p:blipFill>
        <p:spPr>
          <a:xfrm>
            <a:off x="4267080" y="3200400"/>
            <a:ext cx="1895760" cy="2381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leftpoint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14400" y="3809880"/>
            <a:ext cx="22860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Click the noun(s) in the sentence below.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1" action="ppaction://hlinksldjump"/>
              </a:rPr>
              <a:t>That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2" action="ppaction://hlinksldjump"/>
              </a:rPr>
              <a:t>dog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3" action="ppaction://hlinksldjump"/>
              </a:rPr>
              <a:t>chased the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4" action="ppaction://hlinksldjump"/>
              </a:rPr>
              <a:t>boys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5" action="ppaction://hlinksldjump"/>
              </a:rPr>
              <a:t>up a </a:t>
            </a:r>
            <a:r>
              <a:rPr b="0" lang="en-US" sz="4800" spc="-1" strike="noStrike" u="sng">
                <a:solidFill>
                  <a:srgbClr val="66ccff"/>
                </a:solidFill>
                <a:uFillTx/>
                <a:latin typeface="Tahoma"/>
                <a:hlinkClick r:id="rId6" action="ppaction://hlinksldjump"/>
              </a:rPr>
              <a:t>tre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6" descr="bulldog"/>
          <p:cNvPicPr/>
          <p:nvPr/>
        </p:nvPicPr>
        <p:blipFill>
          <a:blip r:embed="rId7"/>
          <a:stretch/>
        </p:blipFill>
        <p:spPr>
          <a:xfrm>
            <a:off x="3809880" y="2819520"/>
            <a:ext cx="4800600" cy="334152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>
            <a:hlinkClick r:id="rId8" action="ppaction://hlinksldjump"/>
          </p:cNvPr>
          <p:cNvSpPr/>
          <p:nvPr/>
        </p:nvSpPr>
        <p:spPr>
          <a:xfrm>
            <a:off x="380880" y="4343400"/>
            <a:ext cx="2819520" cy="1981080"/>
          </a:xfrm>
          <a:prstGeom prst="rightArrow">
            <a:avLst>
              <a:gd name="adj1" fmla="val 50000"/>
              <a:gd name="adj2" fmla="val 35581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9">
            <a:hlinkClick r:id="rId9" action="ppaction://hlinksldjump"/>
          </p:cNvPr>
          <p:cNvSpPr/>
          <p:nvPr/>
        </p:nvSpPr>
        <p:spPr>
          <a:xfrm>
            <a:off x="457200" y="48769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 Sent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3T23:32:19Z</dcterms:created>
  <dc:creator>Jefferson County Schools</dc:creator>
  <dc:description/>
  <dc:language>en-US</dc:language>
  <cp:lastModifiedBy>Laura McDow</cp:lastModifiedBy>
  <dcterms:modified xsi:type="dcterms:W3CDTF">2010-09-17T17:10:51Z</dcterms:modified>
  <cp:revision>11</cp:revision>
  <dc:subject/>
  <dc:title>Name It!</dc:title>
</cp:coreProperties>
</file>